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D1FD-72EE-4996-A7BF-02549B562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475B-8D06-4F6D-B75F-2B31B8711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3810-C950-417C-A2F4-9171974BE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54B0-7A3B-41B5-B536-F2221A778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B51-8D81-4C2D-88C4-0B742897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4DD-AEBC-436E-AFC1-0D2DBE9B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621-7924-4E94-AAEB-8EB7877C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22F-0E7E-4140-A6FD-3AE42F00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39F2-42EA-4486-B183-3F07B357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4C6F-02E0-48F6-837A-1333743D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1EB5-4391-4DBD-A3BB-7AC02182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93B1-7181-4217-B5FA-15C21A1D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65B1-C157-447C-A70D-98121D93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8AAF-E007-42E0-B7A9-9D672B95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BC7C-7ADE-407E-BB97-22D8AA1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BFB-CD97-4F70-8D7C-85581708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9BAB-0085-44BE-ABCD-1E6D5997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7C04-2E4C-45AA-B252-3FE78174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9CE4-8A03-4B57-B7A8-8099D1EF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170A-F405-4480-905F-052AD636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5579-757B-4582-B5CB-36B83184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863-32E6-4BB4-89EE-3403B038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CDB-C20B-472C-8C7D-7A070E7E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4F7-F7DD-4547-9A6D-EEEC5FF0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5A6-8E6A-4418-B575-2F43B9C9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785-647E-4C10-A314-C0D08817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F2C-2CB1-409F-8306-A740BE8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BBD-FD1F-4187-807C-32AD3F08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6F27-CCD6-4E03-B112-46EFEE526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2F41-61D2-475E-A200-EB56670D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13" descr="j0078625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4"/>
          <p:cNvSpPr/>
          <p:nvPr/>
        </p:nvSpPr>
        <p:spPr>
          <a:xfrm>
            <a:off x="5715000" y="2895480"/>
            <a:ext cx="2209680" cy="1524240"/>
          </a:xfrm>
          <a:prstGeom prst="cloudCallout">
            <a:avLst>
              <a:gd name="adj1" fmla="val -94972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41680"/>
                <a:gridCol w="274320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sais qu’ elles sont nombreuses. Je connais  un programme TV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à propos de l’activite des programmes et des gens de la T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39" descr="j0078625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5306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 aident les gens à apprendre des choses sur la France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lques informations sur les programmes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49" descr="j0078625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Ioana</cp:lastModifiedBy>
  <dcterms:modified xsi:type="dcterms:W3CDTF">2009-10-22T15:35:32Z</dcterms:modified>
  <cp:revision>21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